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7555-6577-49ED-9874-8F2F18607C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EB5-2950-4134-B5B6-FD4F5D4E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1EBD-681D-4786-A040-02844688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F64C-175C-4BC5-9253-2EE2EA8D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435-E55B-44B1-AF64-C100EDF4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B8E-DA2E-421B-8B28-130013DF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5C8-068E-4611-B8DF-B4906FD3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79D-3844-472E-B4D9-F1DACFFF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7C59-A8E6-466D-8C76-094AB482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2FD-701C-446B-BA34-180A5EB8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C3D-CBF4-41B8-BB1B-1EE19276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8793-56C5-49B1-B215-7FD14875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1E6-1E21-476D-8E4A-5BF60286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020A-A3EB-4E53-81FA-565699F3A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267080" y="5867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124080" y="4724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9:20:03Z</dcterms:created>
  <dc:creator>vanattab</dc:creator>
  <dc:description/>
  <dc:language>en-US</dc:language>
  <cp:lastModifiedBy>RomaK</cp:lastModifiedBy>
  <dcterms:modified xsi:type="dcterms:W3CDTF">2015-09-03T12:16:46Z</dcterms:modified>
  <cp:revision>3</cp:revision>
  <dc:subject/>
  <dc:title>A: acceleration     B:equilibrium</dc:title>
</cp:coreProperties>
</file>